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F8A-21FF-4E31-93C9-1F96EE9C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5131-1633-471B-9C7D-7CEEC2B74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02E-B96C-4461-9195-BB0E815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C15-9B3E-4E20-B0A7-A02DA8ED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DB9-A2BB-4E97-B082-883812BD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692-27F7-4FED-BF16-E1DB2B70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710-FE99-4F0D-97BD-1A0479F0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117-C8A0-4FBA-877F-66194C8E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13E-AD52-4C5D-AFA3-549304B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205-F03D-498E-A81B-98B8110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4AE-2FC4-4216-BC18-F2AFFEC3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482-63FC-4882-9118-C70464A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A06-4D4F-45AB-A2FF-FA3B0B5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635-D027-4199-9C56-3A7E21BA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7A5A-1232-4538-9D2F-CAF63362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believe in a single God, without shape or form, who is both the creator and ruler of the universe and who prescribes a moral law for humanity. Judaism is the oldest major monotheistic reli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ish people believe in the Torah, which was the whole of the laws given to the Israelites at Sin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lieve they must follow God's laws which govern daily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3:24:05Z</dcterms:created>
  <dc:creator>Rebecca Sanders</dc:creator>
  <dc:description/>
  <dc:language>en-US</dc:language>
  <cp:lastModifiedBy>Rebecca Sanders</cp:lastModifiedBy>
  <dcterms:modified xsi:type="dcterms:W3CDTF">2011-11-02T23:24:26Z</dcterms:modified>
  <cp:revision>1</cp:revision>
  <dc:subject/>
  <dc:title>Slide 1</dc:title>
</cp:coreProperties>
</file>